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  <p:sldId id="274" r:id="rId38"/>
    <p:sldId id="275" r:id="rId39"/>
    <p:sldId id="276" r:id="rId40"/>
    <p:sldId id="277" r:id="rId41"/>
    <p:sldId id="278" r:id="rId42"/>
    <p:sldId id="279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slide" Target="slides/slide19.xml"/><Relationship Id="rId39" Type="http://schemas.openxmlformats.org/officeDocument/2006/relationships/slide" Target="slides/slide20.xml"/><Relationship Id="rId40" Type="http://schemas.openxmlformats.org/officeDocument/2006/relationships/slide" Target="slides/slide21.xml"/><Relationship Id="rId41" Type="http://schemas.openxmlformats.org/officeDocument/2006/relationships/slide" Target="slides/slide22.xml"/><Relationship Id="rId42" Type="http://schemas.openxmlformats.org/officeDocument/2006/relationships/slide" Target="slides/slide23.xml"/><Relationship Id="rId43" Type="http://schemas.openxmlformats.org/officeDocument/2006/relationships/slide" Target="slides/slide24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411F-97A4-4B9D-BF42-DFDB6760B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5BBD-055A-46B8-BF72-8FE1C974C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35E11B-D93B-4A82-9D4A-0EDBB3458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A7966F-4CC5-4040-BE68-DC22D1F73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809C39-B2BF-46F3-9636-D9342608D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AF50E4-1270-432C-8C58-23B37CC04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3A5230-4D6E-4D54-8F47-B1DA3E430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CB38ED-FD03-4CB9-8946-0448D2AB5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C5C4F5-EFEA-4E53-8391-DE8AFB255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63D5AC-9E71-45A1-971C-3D9F1EB11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92B732-01F2-4F9A-8BA5-FC055F6A3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078B32-DEB6-4336-93D7-2C66319C9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04FB-A39E-471D-BF2B-F82B8677B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7BBBB1-C222-4266-A434-4CEB51CCC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0AA15F-0DA4-4650-A95E-638AEF65F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90274D-EDC2-4833-BCFF-ED8E778B1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0E14C3-4140-4459-A04B-EDEDAC603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F684D8-AC35-446F-9FF0-2304BF2F0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6E6FB4-3BEE-4007-B025-1CBB25384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B3A4C5-D826-4250-A332-38C633830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6DB8FF-9801-435A-97C3-16FEE91CE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3C90D4-0C5B-4432-B189-93AFACE7A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F36456-9CA1-4F57-A30B-F2D76D2CE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2993-1347-4D0E-B164-442EF413E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868DCA-9F95-4A5B-95F7-F98A72BE3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44D1D9-F506-4D91-9A4A-107C67DDB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A19A26-7553-454C-BBD7-D02CC1CB3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068521-DD9C-49F3-99AA-F118D93D1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41043E-D141-455B-8E28-6FD73F59E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A46CE9-D027-4C8B-822A-CCCD19DE5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50D5EE-C439-46FC-9D4B-1B92C43DF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816CDA-8F5F-4E30-9596-E1CED61D2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700A29-7B64-412E-B33E-37782D724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1E7C71-ECFA-4D97-955B-BB34BF81A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960B3-DD1E-46A2-B572-80E93103D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D0EA2F-DF47-4608-930D-0E26005B5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302B39-D1F1-4AB4-B188-308814943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371627-DE06-49DD-8CA9-156424C14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3353CA-02B5-43C7-9893-B469E71F5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7E5676-7E26-49AC-9448-8F89A8251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5487DB-98F4-4863-9DC0-B6A4852B1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995F5D-252B-46E8-B39A-D4BAA2EB7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4A3E2F-384B-4CFC-BFA1-70CCF1A20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BDD7A9-55FE-457C-8100-E5C1F83B0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6F9495-4A89-47BE-AB9D-F0C784274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1CA4D-4BA4-4C76-9CDF-C421B081F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17DCD9-9C3F-4A70-B2E8-9A6C950E2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5EE6D2-C09F-4F92-A847-F78477E85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EA946F-917E-45EE-BBCD-97CFB49CE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AF35CE-7496-4809-8FDE-2365E0193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A03C1A-8504-4F2E-B2CD-ED0536197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3B03C2-4751-4E0D-AA33-BAFA5B4B6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BF4117-48E8-4B8C-9923-679FE0C0C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3A9A0D-8E72-4BCD-B8D1-9C6432626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A45FF1-7F63-4421-A845-1927077D2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03BAE7-C0A2-4D07-96AA-8EEDDEA41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D824A-FA41-4192-83E2-8E4B593DC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926E35-93C9-4450-BDAF-492B53B0B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E177B1-92D0-4BA1-A32C-CDAA3EC09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4A6C80-FD46-4C78-A508-0E147DB53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80FF5E-D086-4466-B849-77CBCA84E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373044-B8D7-4004-A91D-2B3801F50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495AFC-D9E7-47D2-A823-A76C7C9A2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6F7204-331F-47C7-A68A-EC8A5AECF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26F6C3-C371-4BAA-AA50-7E2178AD2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202195-E3DA-4CBF-9124-455457E40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9D0134-84F9-40B0-90E2-C7E4BD971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88149-8A0E-4C8F-B3C3-2134D7B99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F4F12E-1E37-4C6C-B00D-57B7E15C7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F10353-5503-4690-821B-9D0589724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3AE5D6-90B8-4382-B38A-CCABB505C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3109C7-6CDC-4726-8135-591B501A0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33BF3D-5027-4968-A1BD-0165B441A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3660F7-157C-4EF5-9AA1-E38DA5BA2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5AC289-A4A8-4BCB-94D3-354CCA58A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F05BDAA-1DDF-4CC5-8811-2EBFC531F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2CF1BF3-23BA-4CAB-AB5B-CA0802799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F63D4A2-FBE0-471B-B17B-7FE81D977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70C9E-C784-443D-BCBF-28D3F7010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82C9CA4-8902-4D73-B3BC-D687CF7FA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4024BA4-2F8F-4F29-B76F-7B6167FBC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903C3ED-C77C-47D5-936F-C0FBA9F8A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A576515-94A7-4044-A570-290EB5214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7024101-5912-4BA8-B7A6-DA182B7C0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34CFDD4-26EB-4E5F-909A-6B56C5844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99F5693-535A-44C9-B3FB-7E639AC4F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A804371-4DBE-4420-BDB6-781592A14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7B6F06F-8AD4-4601-BE65-5DE374515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E9DE1AB-59D1-466B-859D-ED941061F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0AD2B-ED6A-4A06-9DBF-55FF53D79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4869BB7-AF8C-4C5C-ACE1-DDE96A8B6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99481C7-87AF-4C19-85B6-9E69A2B27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189B7DF-6306-4253-BE45-CD944AC1B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900D8E5-42CD-49CA-94C4-3D46B88F2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26E8CF5-7E71-4773-B953-042CAB297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F473367-054F-4182-BE4D-931B555D8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F00A74B-708F-4338-AAC4-C5FE34681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E79701C-B4AB-4EC8-A681-90839CBF0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CD68013-B161-445D-B7B7-E8A9C27B2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74957E5-649F-4C77-A2DF-85E0A5E04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0C931-9C4E-4CBF-8793-CE17B6978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F50C399-F435-416B-A67E-11A2F9E0A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65045F6-1947-4AA1-8E56-FD32581B5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B9D1A91-69DC-4295-BF19-FD9F88AB0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33B227F-3575-4D9F-BE31-FF3666C95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56B7FF5-0F39-4C8D-8FA1-3393BBE15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79D2CDE-B7EB-4B9E-B6D0-2FE3E8FD9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E06BF57-02C9-48F9-B541-7A4664DC5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D2D5122-1E2C-49C3-97CB-1CD3FAB81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53F979D-F1C4-45BF-8132-398B9B1A1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1CD2621-8796-443E-B550-DCB81FB4C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D5EE-DDAC-42EC-B5F1-7E83492C5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97E0D-9FAE-482D-B749-BD892B18E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2E091BF-16D7-4A52-8009-39A5AE27D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F62B677-E6E7-45C4-80BC-1CA220A88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F20A518-457B-4CD3-9F3D-B8BF6576F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D527C5B-8F53-4994-9389-1F4D18CB1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BADDBE6-31A8-4F8F-9A3D-CBB1C270C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679B354-12B8-4F23-8E2D-931F514C4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09B68D9-CF23-43B8-ADF9-78FE6704D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A3EBDBE-18A4-4970-8978-494936928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C8274A8-D8AD-4415-92D2-6667B2A35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E24E3A7-5DE5-48F8-AC3B-84FD82EEB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35AEA-2E6A-4E72-9FAE-F879EFA84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CE2676B-4DA9-4F25-A439-3545BC9F8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858DAF2-FB66-414B-A37C-509A733EA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0938648-458E-428D-A76D-75437F218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8D918E2-7034-48B9-B8B8-663E07DF0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40E04EC-5A93-4C91-A490-53F76986D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D1912E3-20C6-460A-A548-75E4FB415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3AFB35E-716C-48C4-876B-5A16B8DEB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A1967-E4A0-44E2-9E1D-246FDBC94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E1EA1-110F-404F-B6E0-1BED1259B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FC08E-03FD-4151-AA70-B059A2AC8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D56D12-2DF9-4C89-9356-3ABADDDD8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D22F88-D88A-42D7-B49C-0788D31D7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2762A8-0751-4EB7-A5C7-5579C7F2B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928032-6956-4DB9-B552-EA2DB2652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DE4631-3248-4285-9644-1659088B9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E0D7-B58E-48DC-B8B1-C4274318D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D6F8D9-E8CE-4E85-A9C9-9D1A71058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34DA7A-ADD1-4485-AED2-ED4B52655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0E8AAB-8D61-4C1B-9FC6-8E9359828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2A0EC8-F9B4-49E3-A1BF-F075A6A14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7E1B81-8CBB-4C86-B074-3602D6AF4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3F14E7-003B-4640-AB81-CD5092BEC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D6CAF6-F554-4EB2-A4E8-30517C523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63B05C-C00B-43F0-8390-29DB36208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EA9830-BBD2-4265-B329-1240CC867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30AF66-AD57-4C07-99B8-504B88AD5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88F4-54DD-46C5-AAF2-B93152632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1C56D6-6B05-48D4-916C-21C3535AA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194C46-B263-44F5-9C88-44FA73B82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88D4A0-DF7C-43A0-871A-0BEB7627A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291F57-68B2-42AB-92E4-603EEA114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B54F5D-FCB4-47B6-BC27-79223E6E8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CC87C2-A1F0-4727-8071-B3F36D992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CC2346-1E29-42E3-9FC9-7E2346A56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3F37A6-AF68-421B-B8E2-5BFDF2CDB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E25B87-3FE2-4D28-BA77-4B9CFC9C4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5327E9-9A66-45E1-B333-9F948FD3E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C215-A18D-4023-80AC-404ADA860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F66D4F-C8B6-4808-B897-2024485F3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93534B-AC55-4297-AB9E-BAFBA572B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46CD51-B8C1-49D5-8C68-331E719BE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D00F91-7A3A-40C4-BBF0-9CBE61835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587A93-6A2B-4A83-8EDC-F2FC96F31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82D52B-E1DF-4BFD-9B75-F3522223C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2D7DED-F6F9-449F-947B-01F558AFA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D94127-D0AC-424D-A9F1-90323CD19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EE2245-F5C7-41C3-A765-A370B2486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1F2A13-B71E-4888-ACF8-0024F743D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5CD3-923E-4238-8E7D-185AD981B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C97F3A-4272-4BBC-9B5F-52E3CF24D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05FA6E-8D53-4324-806A-CD04D1887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4C2308-8D65-43F3-8B9A-828D9D752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FBE8AE-83B3-4581-8D07-350348088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15DC60-0EAF-43D1-8157-8B39A1E50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5DD14E-5160-48D2-ACCA-DFCA22014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0D11D6-FB38-4BFA-9876-3B9296848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036605-AB23-4E81-8E3D-F4F30F53F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EB132D-8B26-4686-8C13-F4AA12BAC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F90DC0-81D7-4FFC-B49C-E77597D81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BD4C-0903-4586-9408-3927A45DE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CD220F-94F3-4941-90B7-F666BD8D1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198E51-E788-4220-8CF7-843037201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E497BA-1089-465B-A9EB-7143F370B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A44F31-205F-4454-9F8A-E6DC9E8B6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DD0812-5F4A-4FE5-8BA0-BFB0534AC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F11799-790B-4353-9B35-E201EA972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2DA9FE-03A8-4066-AD29-BB5CDC40C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16695F-270C-412B-8084-D51D89324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99BC63-D73F-48FC-86B4-2C0C74E9B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9F478C-EC7E-426A-B733-DABD21156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88AA-A57B-4240-9427-C66A04278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679712-D490-4254-8142-CD5EA746E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A14C1A-56BF-44E5-ABC4-E675ED8CC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656A0F-819E-4FA7-8600-C21EA4A70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02D1A1-8361-4C7E-A68C-4E89FA7D1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2FB168-0A2A-40E9-B52C-B4A5520AF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5B34A2-3EB2-4263-A8A4-587433418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D920AB-3869-4531-82EA-E4555F9B9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5998F1-A38D-421B-91E2-DFF1AF2AE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B239C9-9D13-4ECA-B6D7-AF0B8C85C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C4B1D4-C7AE-4ECF-B305-24905F067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3700-42D9-4EC2-8A26-2C25B6D07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A149FB-F476-4FAE-B53F-CCD1D9CB6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B9B719-11D3-44EC-901A-7E1E3BD82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7D6896-FFB6-4D9A-857D-33E40E687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BD8B13-B105-4BD3-9BD6-C6ABEFAE8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2AB17F-97E2-4623-8C41-FE97EC9EA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85E9BF-4EBF-487C-AA51-38821F7A2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DB7C5E-37EB-4484-A51F-07C215D15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81D3EC-9592-4F9E-946B-C5090E7C0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D48D6C-1E20-44E0-9F55-7544D90F5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99E325-6F69-4915-A5C0-37F68D68E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5C4D2E-01E5-4835-B09B-5AFD3A0CFBE0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661DEC-9D6E-44A4-8CE6-813D5BDFD13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2" name="Group 6"/>
          <p:cNvGrpSpPr/>
          <p:nvPr/>
        </p:nvGrpSpPr>
        <p:grpSpPr>
          <a:xfrm>
            <a:off x="4205160" y="6472080"/>
            <a:ext cx="4900680" cy="398520"/>
            <a:chOff x="4205160" y="6472080"/>
            <a:chExt cx="4900680" cy="398520"/>
          </a:xfrm>
        </p:grpSpPr>
        <p:pic>
          <p:nvPicPr>
            <p:cNvPr id="393" name="Picture 7" descr=""/>
            <p:cNvPicPr/>
            <p:nvPr/>
          </p:nvPicPr>
          <p:blipFill>
            <a:blip r:embed="rId2"/>
            <a:stretch/>
          </p:blipFill>
          <p:spPr>
            <a:xfrm>
              <a:off x="8638200" y="6486120"/>
              <a:ext cx="390600" cy="37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4" name="TextBox 8"/>
            <p:cNvSpPr/>
            <p:nvPr/>
          </p:nvSpPr>
          <p:spPr>
            <a:xfrm>
              <a:off x="4205160" y="6472080"/>
              <a:ext cx="49006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6600"/>
                  </a:solidFill>
                  <a:latin typeface="Calibri"/>
                </a:rPr>
                <a:t>Training Module for Healthcare Provider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Calibri"/>
                </a:rPr>
                <a:t>CPG Management of Type 1 Diabetes Mellitus In Children &amp; Adolescent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95" name="Group 9"/>
          <p:cNvGrpSpPr/>
          <p:nvPr/>
        </p:nvGrpSpPr>
        <p:grpSpPr>
          <a:xfrm>
            <a:off x="3614760" y="6411960"/>
            <a:ext cx="5527800" cy="446040"/>
            <a:chOff x="3614760" y="6411960"/>
            <a:chExt cx="5527800" cy="446040"/>
          </a:xfrm>
        </p:grpSpPr>
        <p:pic>
          <p:nvPicPr>
            <p:cNvPr id="396" name="Picture 10" descr=""/>
            <p:cNvPicPr/>
            <p:nvPr/>
          </p:nvPicPr>
          <p:blipFill>
            <a:blip r:embed="rId3"/>
            <a:stretch/>
          </p:blipFill>
          <p:spPr>
            <a:xfrm>
              <a:off x="8639280" y="6486840"/>
              <a:ext cx="390960" cy="37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" name="Rectangle 11"/>
            <p:cNvSpPr/>
            <p:nvPr/>
          </p:nvSpPr>
          <p:spPr>
            <a:xfrm>
              <a:off x="3614760" y="6411960"/>
              <a:ext cx="5527800" cy="54720"/>
            </a:xfrm>
            <a:prstGeom prst="rect">
              <a:avLst/>
            </a:prstGeom>
            <a:solidFill>
              <a:srgbClr val="5b9bd5"/>
            </a:solidFill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dt" idx="28"/>
          </p:nvPr>
        </p:nvSpPr>
        <p:spPr>
          <a:xfrm>
            <a:off x="955440" y="6492960"/>
            <a:ext cx="1035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90F3EB-CD0B-4087-9FC6-533BFE508BE6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 type="ftr" idx="29"/>
          </p:nvPr>
        </p:nvSpPr>
        <p:spPr>
          <a:xfrm>
            <a:off x="2114640" y="649296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 type="sldNum" idx="30"/>
          </p:nvPr>
        </p:nvSpPr>
        <p:spPr>
          <a:xfrm>
            <a:off x="41040" y="6478560"/>
            <a:ext cx="78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71D51C-036B-4E2B-A694-9DEC8502B37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9" name="Group 6"/>
          <p:cNvGrpSpPr/>
          <p:nvPr/>
        </p:nvGrpSpPr>
        <p:grpSpPr>
          <a:xfrm>
            <a:off x="219240" y="219240"/>
            <a:ext cx="8886600" cy="6651720"/>
            <a:chOff x="219240" y="219240"/>
            <a:chExt cx="8886600" cy="6651720"/>
          </a:xfrm>
        </p:grpSpPr>
        <p:pic>
          <p:nvPicPr>
            <p:cNvPr id="440" name="Picture 7" descr=""/>
            <p:cNvPicPr/>
            <p:nvPr/>
          </p:nvPicPr>
          <p:blipFill>
            <a:blip r:embed="rId2"/>
            <a:stretch/>
          </p:blipFill>
          <p:spPr>
            <a:xfrm>
              <a:off x="8638200" y="6486840"/>
              <a:ext cx="390600" cy="37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1" name="Rounded Rectangle 8"/>
            <p:cNvSpPr/>
            <p:nvPr/>
          </p:nvSpPr>
          <p:spPr>
            <a:xfrm>
              <a:off x="219240" y="219240"/>
              <a:ext cx="8706240" cy="6253200"/>
            </a:xfrm>
            <a:prstGeom prst="roundRect">
              <a:avLst>
                <a:gd name="adj" fmla="val 16667"/>
              </a:avLst>
            </a:prstGeom>
            <a:noFill/>
            <a:ln w="572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2" name="TextBox 9"/>
            <p:cNvSpPr/>
            <p:nvPr/>
          </p:nvSpPr>
          <p:spPr>
            <a:xfrm>
              <a:off x="4205880" y="6472440"/>
              <a:ext cx="4899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6600"/>
                  </a:solidFill>
                  <a:latin typeface="Calibri"/>
                </a:rPr>
                <a:t>Training Module for Healthcare Provider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Calibri"/>
                </a:rPr>
                <a:t>CPG Management of Type 1 Diabetes Mellitus In Children &amp; Adolescent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31"/>
          </p:nvPr>
        </p:nvSpPr>
        <p:spPr>
          <a:xfrm>
            <a:off x="955440" y="6492960"/>
            <a:ext cx="1035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66EDAE-183B-4C92-B5B7-CB452F4CC9B5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32"/>
          </p:nvPr>
        </p:nvSpPr>
        <p:spPr>
          <a:xfrm>
            <a:off x="2114640" y="649296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33"/>
          </p:nvPr>
        </p:nvSpPr>
        <p:spPr>
          <a:xfrm>
            <a:off x="41040" y="6478560"/>
            <a:ext cx="78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081A02-3F28-4F21-9401-58AA2005ACD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4" name="Group 6"/>
          <p:cNvGrpSpPr/>
          <p:nvPr/>
        </p:nvGrpSpPr>
        <p:grpSpPr>
          <a:xfrm>
            <a:off x="4205160" y="6472080"/>
            <a:ext cx="4900680" cy="398520"/>
            <a:chOff x="4205160" y="6472080"/>
            <a:chExt cx="4900680" cy="398520"/>
          </a:xfrm>
        </p:grpSpPr>
        <p:pic>
          <p:nvPicPr>
            <p:cNvPr id="485" name="Picture 7" descr=""/>
            <p:cNvPicPr/>
            <p:nvPr/>
          </p:nvPicPr>
          <p:blipFill>
            <a:blip r:embed="rId2"/>
            <a:stretch/>
          </p:blipFill>
          <p:spPr>
            <a:xfrm>
              <a:off x="8638200" y="6486120"/>
              <a:ext cx="390600" cy="37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6" name="TextBox 8"/>
            <p:cNvSpPr/>
            <p:nvPr/>
          </p:nvSpPr>
          <p:spPr>
            <a:xfrm>
              <a:off x="4205160" y="6472080"/>
              <a:ext cx="49006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6600"/>
                  </a:solidFill>
                  <a:latin typeface="Calibri"/>
                </a:rPr>
                <a:t>Training Module for Healthcare Provider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Calibri"/>
                </a:rPr>
                <a:t>CPG Management of Type 1 Diabetes Mellitus In Children &amp; Adolescent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87" name="Group 9"/>
          <p:cNvGrpSpPr/>
          <p:nvPr/>
        </p:nvGrpSpPr>
        <p:grpSpPr>
          <a:xfrm>
            <a:off x="3614760" y="6411960"/>
            <a:ext cx="5527800" cy="446040"/>
            <a:chOff x="3614760" y="6411960"/>
            <a:chExt cx="5527800" cy="446040"/>
          </a:xfrm>
        </p:grpSpPr>
        <p:pic>
          <p:nvPicPr>
            <p:cNvPr id="488" name="Picture 10" descr=""/>
            <p:cNvPicPr/>
            <p:nvPr/>
          </p:nvPicPr>
          <p:blipFill>
            <a:blip r:embed="rId3"/>
            <a:stretch/>
          </p:blipFill>
          <p:spPr>
            <a:xfrm>
              <a:off x="8639280" y="6486840"/>
              <a:ext cx="390960" cy="37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9" name="Rectangle 11"/>
            <p:cNvSpPr/>
            <p:nvPr/>
          </p:nvSpPr>
          <p:spPr>
            <a:xfrm>
              <a:off x="3614760" y="6411960"/>
              <a:ext cx="5527800" cy="54720"/>
            </a:xfrm>
            <a:prstGeom prst="rect">
              <a:avLst/>
            </a:prstGeom>
            <a:solidFill>
              <a:srgbClr val="5b9bd5"/>
            </a:solidFill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 type="dt" idx="34"/>
          </p:nvPr>
        </p:nvSpPr>
        <p:spPr>
          <a:xfrm>
            <a:off x="955440" y="6492960"/>
            <a:ext cx="1035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9CFF44-6138-4B0D-A99B-F04F768D9921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 type="ftr" idx="35"/>
          </p:nvPr>
        </p:nvSpPr>
        <p:spPr>
          <a:xfrm>
            <a:off x="2114640" y="649296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 type="sldNum" idx="36"/>
          </p:nvPr>
        </p:nvSpPr>
        <p:spPr>
          <a:xfrm>
            <a:off x="41040" y="6478560"/>
            <a:ext cx="78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BA0460-249B-4732-B658-C700914797D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1" name="Group 6"/>
          <p:cNvGrpSpPr/>
          <p:nvPr/>
        </p:nvGrpSpPr>
        <p:grpSpPr>
          <a:xfrm>
            <a:off x="219240" y="219240"/>
            <a:ext cx="8886600" cy="6651720"/>
            <a:chOff x="219240" y="219240"/>
            <a:chExt cx="8886600" cy="6651720"/>
          </a:xfrm>
        </p:grpSpPr>
        <p:pic>
          <p:nvPicPr>
            <p:cNvPr id="532" name="Picture 7" descr=""/>
            <p:cNvPicPr/>
            <p:nvPr/>
          </p:nvPicPr>
          <p:blipFill>
            <a:blip r:embed="rId2"/>
            <a:stretch/>
          </p:blipFill>
          <p:spPr>
            <a:xfrm>
              <a:off x="8638200" y="6486840"/>
              <a:ext cx="390600" cy="37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3" name="Rounded Rectangle 8"/>
            <p:cNvSpPr/>
            <p:nvPr/>
          </p:nvSpPr>
          <p:spPr>
            <a:xfrm>
              <a:off x="219240" y="219240"/>
              <a:ext cx="8706240" cy="6253200"/>
            </a:xfrm>
            <a:prstGeom prst="roundRect">
              <a:avLst>
                <a:gd name="adj" fmla="val 16667"/>
              </a:avLst>
            </a:prstGeom>
            <a:noFill/>
            <a:ln w="572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4" name="TextBox 9"/>
            <p:cNvSpPr/>
            <p:nvPr/>
          </p:nvSpPr>
          <p:spPr>
            <a:xfrm>
              <a:off x="4205880" y="6472440"/>
              <a:ext cx="4899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6600"/>
                  </a:solidFill>
                  <a:latin typeface="Calibri"/>
                </a:rPr>
                <a:t>Training Module for Healthcare Provider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Calibri"/>
                </a:rPr>
                <a:t>CPG Management of Type 1 Diabetes Mellitus In Children &amp; Adolescent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37"/>
          </p:nvPr>
        </p:nvSpPr>
        <p:spPr>
          <a:xfrm>
            <a:off x="955440" y="6492960"/>
            <a:ext cx="1035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AC5F9F-2E0E-4DDE-B2F7-9746C728FD5C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38"/>
          </p:nvPr>
        </p:nvSpPr>
        <p:spPr>
          <a:xfrm>
            <a:off x="2114640" y="649296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39"/>
          </p:nvPr>
        </p:nvSpPr>
        <p:spPr>
          <a:xfrm>
            <a:off x="41040" y="6478560"/>
            <a:ext cx="78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BF71CF-6617-4973-B679-CE093F81417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6" name="Group 6"/>
          <p:cNvGrpSpPr/>
          <p:nvPr/>
        </p:nvGrpSpPr>
        <p:grpSpPr>
          <a:xfrm>
            <a:off x="4205160" y="6472080"/>
            <a:ext cx="4900680" cy="398520"/>
            <a:chOff x="4205160" y="6472080"/>
            <a:chExt cx="4900680" cy="398520"/>
          </a:xfrm>
        </p:grpSpPr>
        <p:pic>
          <p:nvPicPr>
            <p:cNvPr id="577" name="Picture 7" descr=""/>
            <p:cNvPicPr/>
            <p:nvPr/>
          </p:nvPicPr>
          <p:blipFill>
            <a:blip r:embed="rId2"/>
            <a:stretch/>
          </p:blipFill>
          <p:spPr>
            <a:xfrm>
              <a:off x="8638200" y="6486120"/>
              <a:ext cx="390600" cy="37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8" name="TextBox 8"/>
            <p:cNvSpPr/>
            <p:nvPr/>
          </p:nvSpPr>
          <p:spPr>
            <a:xfrm>
              <a:off x="4205160" y="6472080"/>
              <a:ext cx="49006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6600"/>
                  </a:solidFill>
                  <a:latin typeface="Calibri"/>
                </a:rPr>
                <a:t>Training Module for Healthcare Provider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Calibri"/>
                </a:rPr>
                <a:t>CPG Management of Type 1 Diabetes Mellitus In Children &amp; Adolescent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79" name="Group 9"/>
          <p:cNvGrpSpPr/>
          <p:nvPr/>
        </p:nvGrpSpPr>
        <p:grpSpPr>
          <a:xfrm>
            <a:off x="3614760" y="6411960"/>
            <a:ext cx="5527800" cy="446040"/>
            <a:chOff x="3614760" y="6411960"/>
            <a:chExt cx="5527800" cy="446040"/>
          </a:xfrm>
        </p:grpSpPr>
        <p:pic>
          <p:nvPicPr>
            <p:cNvPr id="580" name="Picture 10" descr=""/>
            <p:cNvPicPr/>
            <p:nvPr/>
          </p:nvPicPr>
          <p:blipFill>
            <a:blip r:embed="rId3"/>
            <a:stretch/>
          </p:blipFill>
          <p:spPr>
            <a:xfrm>
              <a:off x="8639280" y="6486840"/>
              <a:ext cx="390960" cy="37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1" name="Rectangle 11"/>
            <p:cNvSpPr/>
            <p:nvPr/>
          </p:nvSpPr>
          <p:spPr>
            <a:xfrm>
              <a:off x="3614760" y="6411960"/>
              <a:ext cx="5527800" cy="54720"/>
            </a:xfrm>
            <a:prstGeom prst="rect">
              <a:avLst/>
            </a:prstGeom>
            <a:solidFill>
              <a:srgbClr val="5b9bd5"/>
            </a:solidFill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 type="dt" idx="40"/>
          </p:nvPr>
        </p:nvSpPr>
        <p:spPr>
          <a:xfrm>
            <a:off x="955440" y="6492960"/>
            <a:ext cx="1035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F62A67-88C8-4E54-80DC-7142BDA2DEA0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 type="ftr" idx="41"/>
          </p:nvPr>
        </p:nvSpPr>
        <p:spPr>
          <a:xfrm>
            <a:off x="2114640" y="649296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 type="sldNum" idx="42"/>
          </p:nvPr>
        </p:nvSpPr>
        <p:spPr>
          <a:xfrm>
            <a:off x="41040" y="6478560"/>
            <a:ext cx="78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252C65-EB3B-47F2-AE83-E295CF3DD1B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3" name="Group 6"/>
          <p:cNvGrpSpPr/>
          <p:nvPr/>
        </p:nvGrpSpPr>
        <p:grpSpPr>
          <a:xfrm>
            <a:off x="219240" y="219240"/>
            <a:ext cx="8886600" cy="6651720"/>
            <a:chOff x="219240" y="219240"/>
            <a:chExt cx="8886600" cy="6651720"/>
          </a:xfrm>
        </p:grpSpPr>
        <p:pic>
          <p:nvPicPr>
            <p:cNvPr id="624" name="Picture 7" descr=""/>
            <p:cNvPicPr/>
            <p:nvPr/>
          </p:nvPicPr>
          <p:blipFill>
            <a:blip r:embed="rId2"/>
            <a:stretch/>
          </p:blipFill>
          <p:spPr>
            <a:xfrm>
              <a:off x="8638200" y="6486840"/>
              <a:ext cx="390600" cy="37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5" name="Rounded Rectangle 9"/>
            <p:cNvSpPr/>
            <p:nvPr/>
          </p:nvSpPr>
          <p:spPr>
            <a:xfrm>
              <a:off x="219240" y="219240"/>
              <a:ext cx="8706240" cy="6253200"/>
            </a:xfrm>
            <a:prstGeom prst="roundRect">
              <a:avLst>
                <a:gd name="adj" fmla="val 16667"/>
              </a:avLst>
            </a:prstGeom>
            <a:noFill/>
            <a:ln w="572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6" name="TextBox 9"/>
            <p:cNvSpPr/>
            <p:nvPr/>
          </p:nvSpPr>
          <p:spPr>
            <a:xfrm>
              <a:off x="4205880" y="6472440"/>
              <a:ext cx="4899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6600"/>
                  </a:solidFill>
                  <a:latin typeface="Calibri"/>
                </a:rPr>
                <a:t>Training Module for Healthcare Provider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Calibri"/>
                </a:rPr>
                <a:t>CPG Management of Type 1 Diabetes Mellitus In Children &amp; Adolescent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3"/>
          </p:nvPr>
        </p:nvSpPr>
        <p:spPr>
          <a:xfrm>
            <a:off x="955440" y="6492960"/>
            <a:ext cx="1035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1C9818-FC5A-4243-88F3-F1EFF0F9371D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4"/>
          </p:nvPr>
        </p:nvSpPr>
        <p:spPr>
          <a:xfrm>
            <a:off x="2114640" y="649296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5"/>
          </p:nvPr>
        </p:nvSpPr>
        <p:spPr>
          <a:xfrm>
            <a:off x="41040" y="6478560"/>
            <a:ext cx="78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F0A20B-F7F8-403B-A1A0-0AC0E1FE7CF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8" name="Group 6"/>
          <p:cNvGrpSpPr/>
          <p:nvPr/>
        </p:nvGrpSpPr>
        <p:grpSpPr>
          <a:xfrm>
            <a:off x="4205160" y="6472080"/>
            <a:ext cx="4900680" cy="398520"/>
            <a:chOff x="4205160" y="6472080"/>
            <a:chExt cx="4900680" cy="398520"/>
          </a:xfrm>
        </p:grpSpPr>
        <p:pic>
          <p:nvPicPr>
            <p:cNvPr id="669" name="Picture 7" descr=""/>
            <p:cNvPicPr/>
            <p:nvPr/>
          </p:nvPicPr>
          <p:blipFill>
            <a:blip r:embed="rId2"/>
            <a:stretch/>
          </p:blipFill>
          <p:spPr>
            <a:xfrm>
              <a:off x="8638200" y="6486120"/>
              <a:ext cx="390600" cy="37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0" name="TextBox 8"/>
            <p:cNvSpPr/>
            <p:nvPr/>
          </p:nvSpPr>
          <p:spPr>
            <a:xfrm>
              <a:off x="4205160" y="6472080"/>
              <a:ext cx="49006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6600"/>
                  </a:solidFill>
                  <a:latin typeface="Calibri"/>
                </a:rPr>
                <a:t>Training Module for Healthcare Provider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Calibri"/>
                </a:rPr>
                <a:t>CPG Management of Type 1 Diabetes Mellitus In Children &amp; Adolescent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71" name="Group 9"/>
          <p:cNvGrpSpPr/>
          <p:nvPr/>
        </p:nvGrpSpPr>
        <p:grpSpPr>
          <a:xfrm>
            <a:off x="3614760" y="6411960"/>
            <a:ext cx="5527800" cy="446040"/>
            <a:chOff x="3614760" y="6411960"/>
            <a:chExt cx="5527800" cy="446040"/>
          </a:xfrm>
        </p:grpSpPr>
        <p:pic>
          <p:nvPicPr>
            <p:cNvPr id="672" name="Picture 10" descr=""/>
            <p:cNvPicPr/>
            <p:nvPr/>
          </p:nvPicPr>
          <p:blipFill>
            <a:blip r:embed="rId3"/>
            <a:stretch/>
          </p:blipFill>
          <p:spPr>
            <a:xfrm>
              <a:off x="8639280" y="6486840"/>
              <a:ext cx="390960" cy="37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3" name="Rectangle 11"/>
            <p:cNvSpPr/>
            <p:nvPr/>
          </p:nvSpPr>
          <p:spPr>
            <a:xfrm>
              <a:off x="3614760" y="6411960"/>
              <a:ext cx="5527800" cy="54720"/>
            </a:xfrm>
            <a:prstGeom prst="rect">
              <a:avLst/>
            </a:prstGeom>
            <a:solidFill>
              <a:srgbClr val="5b9bd5"/>
            </a:solidFill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 type="dt" idx="46"/>
          </p:nvPr>
        </p:nvSpPr>
        <p:spPr>
          <a:xfrm>
            <a:off x="955440" y="6492960"/>
            <a:ext cx="1035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9417FC-5230-4FF8-A18B-2FEA1D389671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 type="ftr" idx="47"/>
          </p:nvPr>
        </p:nvSpPr>
        <p:spPr>
          <a:xfrm>
            <a:off x="2114640" y="649296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 type="sldNum" idx="48"/>
          </p:nvPr>
        </p:nvSpPr>
        <p:spPr>
          <a:xfrm>
            <a:off x="41040" y="6478560"/>
            <a:ext cx="78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7A9273-3408-447A-ABE8-59723F22A8F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Date Placeholder 4"/>
          <p:cNvSpPr/>
          <p:nvPr/>
        </p:nvSpPr>
        <p:spPr>
          <a:xfrm>
            <a:off x="955800" y="6492960"/>
            <a:ext cx="1035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D8C659-A895-45E5-B4D3-99A4829A279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Slide Number Placeholder 6"/>
          <p:cNvSpPr/>
          <p:nvPr/>
        </p:nvSpPr>
        <p:spPr>
          <a:xfrm>
            <a:off x="41400" y="6478560"/>
            <a:ext cx="78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25B58B-154B-489C-B342-E638FEBC57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17" name="Group 8"/>
          <p:cNvGrpSpPr/>
          <p:nvPr/>
        </p:nvGrpSpPr>
        <p:grpSpPr>
          <a:xfrm>
            <a:off x="219240" y="219240"/>
            <a:ext cx="8886600" cy="6651720"/>
            <a:chOff x="219240" y="219240"/>
            <a:chExt cx="8886600" cy="6651720"/>
          </a:xfrm>
        </p:grpSpPr>
        <p:pic>
          <p:nvPicPr>
            <p:cNvPr id="718" name="Picture 9" descr=""/>
            <p:cNvPicPr/>
            <p:nvPr/>
          </p:nvPicPr>
          <p:blipFill>
            <a:blip r:embed="rId2"/>
            <a:stretch/>
          </p:blipFill>
          <p:spPr>
            <a:xfrm>
              <a:off x="8638200" y="6486840"/>
              <a:ext cx="390600" cy="37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9" name="Rounded Rectangle 9"/>
            <p:cNvSpPr/>
            <p:nvPr/>
          </p:nvSpPr>
          <p:spPr>
            <a:xfrm>
              <a:off x="219240" y="219240"/>
              <a:ext cx="8706240" cy="6253200"/>
            </a:xfrm>
            <a:prstGeom prst="roundRect">
              <a:avLst>
                <a:gd name="adj" fmla="val 16667"/>
              </a:avLst>
            </a:prstGeom>
            <a:noFill/>
            <a:ln w="572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0" name="TextBox 11"/>
            <p:cNvSpPr/>
            <p:nvPr/>
          </p:nvSpPr>
          <p:spPr>
            <a:xfrm>
              <a:off x="4205880" y="6472440"/>
              <a:ext cx="4899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6600"/>
                  </a:solidFill>
                  <a:latin typeface="Calibri"/>
                </a:rPr>
                <a:t>Training Module for Healthcare Provider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Calibri"/>
                </a:rPr>
                <a:t>CPG Management of Type 1 Diabetes Mellitus In Children &amp; Adolescent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 type="dt" idx="49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7923EA-805A-4C4C-9952-AF5C2FF37BA2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 type="ftr" idx="50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5"/>
          <p:cNvSpPr>
            <a:spLocks noGrp="1"/>
          </p:cNvSpPr>
          <p:nvPr>
            <p:ph type="sldNum" idx="51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EA0961-3A5B-4DF2-B801-3F9D3D80694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2" name="Group 6"/>
          <p:cNvGrpSpPr/>
          <p:nvPr/>
        </p:nvGrpSpPr>
        <p:grpSpPr>
          <a:xfrm>
            <a:off x="4205160" y="6472080"/>
            <a:ext cx="4900680" cy="398520"/>
            <a:chOff x="4205160" y="6472080"/>
            <a:chExt cx="4900680" cy="398520"/>
          </a:xfrm>
        </p:grpSpPr>
        <p:pic>
          <p:nvPicPr>
            <p:cNvPr id="763" name="Picture 7" descr=""/>
            <p:cNvPicPr/>
            <p:nvPr/>
          </p:nvPicPr>
          <p:blipFill>
            <a:blip r:embed="rId2"/>
            <a:stretch/>
          </p:blipFill>
          <p:spPr>
            <a:xfrm>
              <a:off x="8638200" y="6486120"/>
              <a:ext cx="390600" cy="37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4" name="TextBox 8"/>
            <p:cNvSpPr/>
            <p:nvPr/>
          </p:nvSpPr>
          <p:spPr>
            <a:xfrm>
              <a:off x="4205160" y="6472080"/>
              <a:ext cx="49006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6600"/>
                  </a:solidFill>
                  <a:latin typeface="Calibri"/>
                </a:rPr>
                <a:t>Training Manual for Healthcare Professional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Calibri"/>
                </a:rPr>
                <a:t>CPG Management of Type 1 Diabetes Mellitus In Children &amp; Adolescents: 1</a:t>
              </a:r>
              <a:r>
                <a:rPr b="0" lang="en-US" sz="1000" spc="-1" strike="noStrike" baseline="30000">
                  <a:solidFill>
                    <a:srgbClr val="ff0000"/>
                  </a:solidFill>
                  <a:latin typeface="Calibri"/>
                </a:rPr>
                <a:t>st</a:t>
              </a:r>
              <a:r>
                <a:rPr b="0" lang="en-US" sz="1000" spc="-1" strike="noStrike">
                  <a:solidFill>
                    <a:srgbClr val="ff0000"/>
                  </a:solidFill>
                  <a:latin typeface="Calibri"/>
                </a:rPr>
                <a:t> Edition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5" name="Group 9"/>
          <p:cNvGrpSpPr/>
          <p:nvPr/>
        </p:nvGrpSpPr>
        <p:grpSpPr>
          <a:xfrm>
            <a:off x="3614760" y="6411960"/>
            <a:ext cx="5527800" cy="459000"/>
            <a:chOff x="3614760" y="6411960"/>
            <a:chExt cx="5527800" cy="459000"/>
          </a:xfrm>
        </p:grpSpPr>
        <p:pic>
          <p:nvPicPr>
            <p:cNvPr id="766" name="Picture 10" descr=""/>
            <p:cNvPicPr/>
            <p:nvPr/>
          </p:nvPicPr>
          <p:blipFill>
            <a:blip r:embed="rId3"/>
            <a:stretch/>
          </p:blipFill>
          <p:spPr>
            <a:xfrm>
              <a:off x="8639280" y="6486840"/>
              <a:ext cx="390960" cy="37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7" name="Rectangle 11"/>
            <p:cNvSpPr/>
            <p:nvPr/>
          </p:nvSpPr>
          <p:spPr>
            <a:xfrm>
              <a:off x="3614760" y="6411960"/>
              <a:ext cx="5527800" cy="54720"/>
            </a:xfrm>
            <a:prstGeom prst="rect">
              <a:avLst/>
            </a:prstGeom>
            <a:solidFill>
              <a:srgbClr val="5b9bd5"/>
            </a:solidFill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8" name="TextBox 12"/>
            <p:cNvSpPr/>
            <p:nvPr/>
          </p:nvSpPr>
          <p:spPr>
            <a:xfrm>
              <a:off x="4205520" y="6472440"/>
              <a:ext cx="49014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6600"/>
                  </a:solidFill>
                  <a:latin typeface="Calibri"/>
                </a:rPr>
                <a:t>Training Manual for Healthcare Professional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Calibri"/>
                </a:rPr>
                <a:t>CPG Management of Type 1 Diabetes Mellitus In Children &amp; Adolescents: 1</a:t>
              </a:r>
              <a:r>
                <a:rPr b="0" lang="en-US" sz="1000" spc="-1" strike="noStrike" baseline="30000">
                  <a:solidFill>
                    <a:srgbClr val="ff0000"/>
                  </a:solidFill>
                  <a:latin typeface="Calibri"/>
                </a:rPr>
                <a:t>st</a:t>
              </a:r>
              <a:r>
                <a:rPr b="0" lang="en-US" sz="1000" spc="-1" strike="noStrike">
                  <a:solidFill>
                    <a:srgbClr val="ff0000"/>
                  </a:solidFill>
                  <a:latin typeface="Calibri"/>
                </a:rPr>
                <a:t> Edition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 type="dt" idx="52"/>
          </p:nvPr>
        </p:nvSpPr>
        <p:spPr>
          <a:xfrm>
            <a:off x="955440" y="6492960"/>
            <a:ext cx="1035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688B75-E8D7-422C-A5BF-0F221D64EA72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 type="ftr" idx="53"/>
          </p:nvPr>
        </p:nvSpPr>
        <p:spPr>
          <a:xfrm>
            <a:off x="2114640" y="649296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 type="sldNum" idx="54"/>
          </p:nvPr>
        </p:nvSpPr>
        <p:spPr>
          <a:xfrm>
            <a:off x="41040" y="6478560"/>
            <a:ext cx="78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697FE9-5984-4E64-AF0C-23A6E228AFD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2CC3F9-7D89-4DBF-B99C-9A23410D0180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D566B4-9725-4FDC-8741-21FE55A6E86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1201320" y="6465960"/>
            <a:ext cx="1089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16C7B5-5095-47D1-AE34-23AD4D0F93E3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2428920" y="646596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60571A-B978-4BAB-8619-9B73C3BAA92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6" descr=""/>
          <p:cNvPicPr/>
          <p:nvPr/>
        </p:nvPicPr>
        <p:blipFill>
          <a:blip r:embed="rId2"/>
          <a:stretch/>
        </p:blipFill>
        <p:spPr>
          <a:xfrm>
            <a:off x="8639280" y="6486480"/>
            <a:ext cx="390600" cy="37152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>
            <a:off x="1201320" y="6465960"/>
            <a:ext cx="1089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EAD682-04E3-47C1-9F67-EE12BF23029D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2428920" y="646596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5DE0E5-C241-43DB-890F-96ADE8F8BB2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Group 6"/>
          <p:cNvGrpSpPr/>
          <p:nvPr/>
        </p:nvGrpSpPr>
        <p:grpSpPr>
          <a:xfrm>
            <a:off x="4205160" y="6472080"/>
            <a:ext cx="4900680" cy="398520"/>
            <a:chOff x="4205160" y="6472080"/>
            <a:chExt cx="4900680" cy="398520"/>
          </a:xfrm>
        </p:grpSpPr>
        <p:pic>
          <p:nvPicPr>
            <p:cNvPr id="166" name="Picture 7" descr=""/>
            <p:cNvPicPr/>
            <p:nvPr/>
          </p:nvPicPr>
          <p:blipFill>
            <a:blip r:embed="rId2"/>
            <a:stretch/>
          </p:blipFill>
          <p:spPr>
            <a:xfrm>
              <a:off x="8638200" y="6486120"/>
              <a:ext cx="390600" cy="37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TextBox 8"/>
            <p:cNvSpPr/>
            <p:nvPr/>
          </p:nvSpPr>
          <p:spPr>
            <a:xfrm>
              <a:off x="4205160" y="6472080"/>
              <a:ext cx="49006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6600"/>
                  </a:solidFill>
                  <a:latin typeface="Calibri"/>
                </a:rPr>
                <a:t>Training Module for Healthcare Provider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Calibri"/>
                </a:rPr>
                <a:t>CPG Management of Type 1 Diabetes Mellitus In Children &amp; Adolescent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8" name="Rounded Rectangle 9"/>
          <p:cNvSpPr/>
          <p:nvPr/>
        </p:nvSpPr>
        <p:spPr>
          <a:xfrm>
            <a:off x="219240" y="219240"/>
            <a:ext cx="8705520" cy="625284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1201320" y="6465960"/>
            <a:ext cx="1089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B95F85-144D-4638-B7B4-E5D043B696FC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2428920" y="646596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9A03C3-8147-4870-AE21-A22D8B88962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Group 6"/>
          <p:cNvGrpSpPr/>
          <p:nvPr/>
        </p:nvGrpSpPr>
        <p:grpSpPr>
          <a:xfrm>
            <a:off x="3614760" y="6411960"/>
            <a:ext cx="5527800" cy="459000"/>
            <a:chOff x="3614760" y="6411960"/>
            <a:chExt cx="5527800" cy="459000"/>
          </a:xfrm>
        </p:grpSpPr>
        <p:pic>
          <p:nvPicPr>
            <p:cNvPr id="211" name="Picture 7" descr=""/>
            <p:cNvPicPr/>
            <p:nvPr/>
          </p:nvPicPr>
          <p:blipFill>
            <a:blip r:embed="rId2"/>
            <a:stretch/>
          </p:blipFill>
          <p:spPr>
            <a:xfrm>
              <a:off x="8639280" y="6486840"/>
              <a:ext cx="390960" cy="37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Rectangle 8"/>
            <p:cNvSpPr/>
            <p:nvPr/>
          </p:nvSpPr>
          <p:spPr>
            <a:xfrm>
              <a:off x="3614760" y="6411960"/>
              <a:ext cx="5527800" cy="54720"/>
            </a:xfrm>
            <a:prstGeom prst="rect">
              <a:avLst/>
            </a:prstGeom>
            <a:solidFill>
              <a:srgbClr val="5b9bd5"/>
            </a:solidFill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" name="TextBox 9"/>
            <p:cNvSpPr/>
            <p:nvPr/>
          </p:nvSpPr>
          <p:spPr>
            <a:xfrm>
              <a:off x="4205520" y="6472440"/>
              <a:ext cx="49014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6600"/>
                  </a:solidFill>
                  <a:latin typeface="Calibri"/>
                </a:rPr>
                <a:t>Training Module for Healthcare Provider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Calibri"/>
                </a:rPr>
                <a:t>CPG Management of Type 1 Diabetes Mellitus In Children &amp; Adolescent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1201320" y="6465960"/>
            <a:ext cx="1089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CD1014-B9A6-4947-83B6-4D4F765009E9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7"/>
          </p:nvPr>
        </p:nvSpPr>
        <p:spPr>
          <a:xfrm>
            <a:off x="2428920" y="646596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8"/>
          </p:nvPr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1C1DB7-F101-4DC9-8559-873128C2A87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5" name="Group 6"/>
          <p:cNvGrpSpPr/>
          <p:nvPr/>
        </p:nvGrpSpPr>
        <p:grpSpPr>
          <a:xfrm>
            <a:off x="219240" y="219240"/>
            <a:ext cx="8886600" cy="6651720"/>
            <a:chOff x="219240" y="219240"/>
            <a:chExt cx="8886600" cy="6651720"/>
          </a:xfrm>
        </p:grpSpPr>
        <p:pic>
          <p:nvPicPr>
            <p:cNvPr id="256" name="Picture 7" descr=""/>
            <p:cNvPicPr/>
            <p:nvPr/>
          </p:nvPicPr>
          <p:blipFill>
            <a:blip r:embed="rId2"/>
            <a:stretch/>
          </p:blipFill>
          <p:spPr>
            <a:xfrm>
              <a:off x="8638200" y="6486840"/>
              <a:ext cx="390600" cy="37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Rounded Rectangle 9"/>
            <p:cNvSpPr/>
            <p:nvPr/>
          </p:nvSpPr>
          <p:spPr>
            <a:xfrm>
              <a:off x="219240" y="219240"/>
              <a:ext cx="8706240" cy="6253200"/>
            </a:xfrm>
            <a:prstGeom prst="roundRect">
              <a:avLst>
                <a:gd name="adj" fmla="val 16667"/>
              </a:avLst>
            </a:prstGeom>
            <a:noFill/>
            <a:ln w="572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" name="TextBox 9"/>
            <p:cNvSpPr/>
            <p:nvPr/>
          </p:nvSpPr>
          <p:spPr>
            <a:xfrm>
              <a:off x="4205880" y="6472440"/>
              <a:ext cx="4899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6600"/>
                  </a:solidFill>
                  <a:latin typeface="Calibri"/>
                </a:rPr>
                <a:t>Training Module for Healthcare Provider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Calibri"/>
                </a:rPr>
                <a:t>CPG Management of Type 1 Diabetes Mellitus In Children &amp; Adolescent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9"/>
          </p:nvPr>
        </p:nvSpPr>
        <p:spPr>
          <a:xfrm>
            <a:off x="955440" y="6492960"/>
            <a:ext cx="1035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8A2A97-DDF8-4644-818A-4CF29DD9A9CE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20"/>
          </p:nvPr>
        </p:nvSpPr>
        <p:spPr>
          <a:xfrm>
            <a:off x="2114640" y="649296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21"/>
          </p:nvPr>
        </p:nvSpPr>
        <p:spPr>
          <a:xfrm>
            <a:off x="41040" y="6478560"/>
            <a:ext cx="78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283B8E-E458-4374-BB31-0ECBF87F204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Group 6"/>
          <p:cNvGrpSpPr/>
          <p:nvPr/>
        </p:nvGrpSpPr>
        <p:grpSpPr>
          <a:xfrm>
            <a:off x="4205160" y="6472080"/>
            <a:ext cx="4900680" cy="398520"/>
            <a:chOff x="4205160" y="6472080"/>
            <a:chExt cx="4900680" cy="398520"/>
          </a:xfrm>
        </p:grpSpPr>
        <p:pic>
          <p:nvPicPr>
            <p:cNvPr id="301" name="Picture 7" descr=""/>
            <p:cNvPicPr/>
            <p:nvPr/>
          </p:nvPicPr>
          <p:blipFill>
            <a:blip r:embed="rId2"/>
            <a:stretch/>
          </p:blipFill>
          <p:spPr>
            <a:xfrm>
              <a:off x="8638200" y="6486120"/>
              <a:ext cx="390600" cy="37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" name="TextBox 8"/>
            <p:cNvSpPr/>
            <p:nvPr/>
          </p:nvSpPr>
          <p:spPr>
            <a:xfrm>
              <a:off x="4205160" y="6472080"/>
              <a:ext cx="49006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6600"/>
                  </a:solidFill>
                  <a:latin typeface="Calibri"/>
                </a:rPr>
                <a:t>Training Module for Healthcare Provider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Calibri"/>
                </a:rPr>
                <a:t>CPG Management of Type 1 Diabetes Mellitus In Children &amp; Adolescent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3" name="Group 9"/>
          <p:cNvGrpSpPr/>
          <p:nvPr/>
        </p:nvGrpSpPr>
        <p:grpSpPr>
          <a:xfrm>
            <a:off x="3614760" y="6411960"/>
            <a:ext cx="5527800" cy="446040"/>
            <a:chOff x="3614760" y="6411960"/>
            <a:chExt cx="5527800" cy="446040"/>
          </a:xfrm>
        </p:grpSpPr>
        <p:pic>
          <p:nvPicPr>
            <p:cNvPr id="304" name="Picture 10" descr=""/>
            <p:cNvPicPr/>
            <p:nvPr/>
          </p:nvPicPr>
          <p:blipFill>
            <a:blip r:embed="rId3"/>
            <a:stretch/>
          </p:blipFill>
          <p:spPr>
            <a:xfrm>
              <a:off x="8639280" y="6486840"/>
              <a:ext cx="390960" cy="37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Rectangle 11"/>
            <p:cNvSpPr/>
            <p:nvPr/>
          </p:nvSpPr>
          <p:spPr>
            <a:xfrm>
              <a:off x="3614760" y="6411960"/>
              <a:ext cx="5527800" cy="54720"/>
            </a:xfrm>
            <a:prstGeom prst="rect">
              <a:avLst/>
            </a:prstGeom>
            <a:solidFill>
              <a:srgbClr val="5b9bd5"/>
            </a:solidFill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22"/>
          </p:nvPr>
        </p:nvSpPr>
        <p:spPr>
          <a:xfrm>
            <a:off x="955440" y="6492960"/>
            <a:ext cx="1035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1605B6-B64D-43C5-99E1-178C05299556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ftr" idx="23"/>
          </p:nvPr>
        </p:nvSpPr>
        <p:spPr>
          <a:xfrm>
            <a:off x="2114640" y="649296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sldNum" idx="24"/>
          </p:nvPr>
        </p:nvSpPr>
        <p:spPr>
          <a:xfrm>
            <a:off x="41040" y="6478560"/>
            <a:ext cx="78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955CEA-6FBA-474D-AB44-EC311CE326F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7" name="Group 6"/>
          <p:cNvGrpSpPr/>
          <p:nvPr/>
        </p:nvGrpSpPr>
        <p:grpSpPr>
          <a:xfrm>
            <a:off x="219240" y="219240"/>
            <a:ext cx="8886600" cy="6651720"/>
            <a:chOff x="219240" y="219240"/>
            <a:chExt cx="8886600" cy="6651720"/>
          </a:xfrm>
        </p:grpSpPr>
        <p:pic>
          <p:nvPicPr>
            <p:cNvPr id="348" name="Picture 7" descr=""/>
            <p:cNvPicPr/>
            <p:nvPr/>
          </p:nvPicPr>
          <p:blipFill>
            <a:blip r:embed="rId2"/>
            <a:stretch/>
          </p:blipFill>
          <p:spPr>
            <a:xfrm>
              <a:off x="8638200" y="6486840"/>
              <a:ext cx="390600" cy="37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Rounded Rectangle 8"/>
            <p:cNvSpPr/>
            <p:nvPr/>
          </p:nvSpPr>
          <p:spPr>
            <a:xfrm>
              <a:off x="219240" y="219240"/>
              <a:ext cx="8706240" cy="6253200"/>
            </a:xfrm>
            <a:prstGeom prst="roundRect">
              <a:avLst>
                <a:gd name="adj" fmla="val 16667"/>
              </a:avLst>
            </a:prstGeom>
            <a:noFill/>
            <a:ln w="572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0" name="TextBox 9"/>
            <p:cNvSpPr/>
            <p:nvPr/>
          </p:nvSpPr>
          <p:spPr>
            <a:xfrm>
              <a:off x="4205880" y="6472440"/>
              <a:ext cx="4899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6600"/>
                  </a:solidFill>
                  <a:latin typeface="Calibri"/>
                </a:rPr>
                <a:t>Training Module for Healthcare Provider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Calibri"/>
                </a:rPr>
                <a:t>CPG Management of Type 1 Diabetes Mellitus In Children &amp; Adolescent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dt" idx="25"/>
          </p:nvPr>
        </p:nvSpPr>
        <p:spPr>
          <a:xfrm>
            <a:off x="955440" y="6492960"/>
            <a:ext cx="1035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17F040-440F-4131-804E-2456E5B3953B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ftr" idx="26"/>
          </p:nvPr>
        </p:nvSpPr>
        <p:spPr>
          <a:xfrm>
            <a:off x="2114640" y="649296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sldNum" idx="27"/>
          </p:nvPr>
        </p:nvSpPr>
        <p:spPr>
          <a:xfrm>
            <a:off x="41040" y="6478560"/>
            <a:ext cx="78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6489F8-D088-48DB-8060-7227A80436D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623880" y="993600"/>
            <a:ext cx="7886880" cy="208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Calibri"/>
              </a:rPr>
              <a:t>Training Module CPG T1DM - </a:t>
            </a:r>
            <a:br>
              <a:rPr sz="4400"/>
            </a:br>
            <a:r>
              <a:rPr b="1" lang="en-US" sz="4400" spc="-1" strike="noStrike">
                <a:solidFill>
                  <a:srgbClr val="3333ff"/>
                </a:solidFill>
                <a:latin typeface="Calibri"/>
              </a:rPr>
              <a:t>Case Discussion 1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854440" y="3654000"/>
            <a:ext cx="5656320" cy="201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SimSun"/>
              </a:rPr>
              <a:t>Dr. Cheah Yee Keat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SimSun"/>
              </a:rPr>
              <a:t>Consultant Paediatrician, Hospital Tuanku Ja’afar, N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SimSun"/>
              </a:rPr>
              <a:t>Dr. Zahidah Mohd. Kasim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SimSun"/>
              </a:rPr>
              <a:t>Paediatrician, Hospital Kajang, Selangor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SimSun"/>
              </a:rPr>
              <a:t>Dr. Fuziah Md. Zai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SimSun"/>
              </a:rPr>
              <a:t>Consultant Paediatric Endocrinologist, Hospital Putrajaya, Putrajaya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2" name="Picture 3" descr=""/>
          <p:cNvPicPr/>
          <p:nvPr/>
        </p:nvPicPr>
        <p:blipFill>
          <a:blip r:embed="rId1"/>
          <a:stretch/>
        </p:blipFill>
        <p:spPr>
          <a:xfrm>
            <a:off x="757080" y="2992320"/>
            <a:ext cx="2071800" cy="3195720"/>
          </a:xfrm>
          <a:prstGeom prst="rect">
            <a:avLst/>
          </a:prstGeom>
          <a:ln w="0">
            <a:noFill/>
          </a:ln>
        </p:spPr>
      </p:pic>
      <p:sp>
        <p:nvSpPr>
          <p:cNvPr id="813" name="Slide Number Placeholder 4"/>
          <p:cNvSpPr/>
          <p:nvPr/>
        </p:nvSpPr>
        <p:spPr>
          <a:xfrm>
            <a:off x="41400" y="6478560"/>
            <a:ext cx="78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4EAF10-320B-4CA1-A188-125FE05B83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28560" y="4604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400" spc="-1" strike="noStrike">
                <a:solidFill>
                  <a:srgbClr val="ff0000"/>
                </a:solidFill>
                <a:latin typeface="Calibri"/>
              </a:rPr>
              <a:t>Answer 4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9" name=""/>
          <p:cNvSpPr txBox="1"/>
          <p:nvPr/>
        </p:nvSpPr>
        <p:spPr>
          <a:xfrm>
            <a:off x="628560" y="1920600"/>
            <a:ext cx="7886880" cy="40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800" spc="-1" strike="noStrike">
                <a:solidFill>
                  <a:srgbClr val="ff0000"/>
                </a:solidFill>
                <a:latin typeface="Calibri"/>
              </a:rPr>
              <a:t>Diagnostic criteria of DM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classic symptoms of diabetes (</a:t>
            </a:r>
            <a:r>
              <a:rPr b="1" lang="en-MY" sz="2400" spc="-1" strike="noStrike">
                <a:solidFill>
                  <a:srgbClr val="ff0000"/>
                </a:solidFill>
                <a:latin typeface="Calibri"/>
              </a:rPr>
              <a:t>thirst, polyuria, polydipsia, </a:t>
            </a: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recurrent infection &amp; </a:t>
            </a:r>
            <a:r>
              <a:rPr b="1" lang="en-MY" sz="2400" spc="-1" strike="noStrike">
                <a:solidFill>
                  <a:srgbClr val="ff0000"/>
                </a:solidFill>
                <a:latin typeface="Calibri"/>
              </a:rPr>
              <a:t>weight loss</a:t>
            </a: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) or hyperglycaemic crisis, with plasma glucose concentration </a:t>
            </a:r>
            <a:r>
              <a:rPr b="1" lang="en-MY" sz="2400" spc="-1" strike="noStrike">
                <a:solidFill>
                  <a:srgbClr val="ff0000"/>
                </a:solidFill>
                <a:latin typeface="Calibri"/>
              </a:rPr>
              <a:t>≥11.1 mmol/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fasting plasma glucose ≥7.0 mmol/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2 hour post-load glucose ≥11.1 mmol/L in OGTT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ff0000"/>
              </a:buClr>
              <a:buFont typeface="Calibri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400" spc="-1" strike="noStrike">
                <a:solidFill>
                  <a:srgbClr val="ff0000"/>
                </a:solidFill>
                <a:latin typeface="Calibri"/>
              </a:rPr>
              <a:t>HbA1c &gt;6.5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Slide Number Placeholder 3"/>
          <p:cNvSpPr/>
          <p:nvPr/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8B46BC-2301-4C48-A74A-71A2A114C6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628560" y="651960"/>
            <a:ext cx="7886880" cy="132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nvestigation results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2" name=""/>
          <p:cNvSpPr txBox="1"/>
          <p:nvPr/>
        </p:nvSpPr>
        <p:spPr>
          <a:xfrm>
            <a:off x="628560" y="2112480"/>
            <a:ext cx="7886880" cy="36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Random blood glucose = 18 mmol/L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HbA1c = 10.9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Blood ketone =  1 mmol/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Venous blood gas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pH = 7.3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Bicarbonate = 20 mmol/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Slide Number Placeholder 3"/>
          <p:cNvSpPr/>
          <p:nvPr/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06EDB7-96B4-4E9D-860E-5C7121B4A7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628560" y="419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400" spc="-1" strike="noStrike">
                <a:solidFill>
                  <a:srgbClr val="000000"/>
                </a:solidFill>
                <a:latin typeface="Calibri"/>
              </a:rPr>
              <a:t>History &amp; Examination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5" name=""/>
          <p:cNvSpPr txBox="1"/>
          <p:nvPr/>
        </p:nvSpPr>
        <p:spPr>
          <a:xfrm>
            <a:off x="628560" y="1879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rther history: No family history of D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ight: 22 kg, Height: 130 c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MI: 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P: 90/60 mmH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 acanthosis nigrica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800" spc="-1" strike="noStrike">
                <a:solidFill>
                  <a:srgbClr val="ff0000"/>
                </a:solidFill>
                <a:latin typeface="Calibri"/>
              </a:rPr>
              <a:t>Q5.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What type of diabetes does this patient hav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Slide Number Placeholder 3"/>
          <p:cNvSpPr/>
          <p:nvPr/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4835AA-E1B6-407B-B36E-BC41062846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628560" y="651960"/>
            <a:ext cx="7886880" cy="132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400" spc="-1" strike="noStrike">
                <a:solidFill>
                  <a:srgbClr val="ff0000"/>
                </a:solidFill>
                <a:latin typeface="Calibri"/>
              </a:rPr>
              <a:t>Answer 5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848" name="Picture 2" descr=""/>
          <p:cNvPicPr/>
          <p:nvPr/>
        </p:nvPicPr>
        <p:blipFill>
          <a:blip r:embed="rId1"/>
          <a:stretch/>
        </p:blipFill>
        <p:spPr>
          <a:xfrm>
            <a:off x="517680" y="2189160"/>
            <a:ext cx="8175600" cy="3076560"/>
          </a:xfrm>
          <a:prstGeom prst="rect">
            <a:avLst/>
          </a:prstGeom>
          <a:ln w="0">
            <a:noFill/>
          </a:ln>
        </p:spPr>
      </p:pic>
      <p:sp>
        <p:nvSpPr>
          <p:cNvPr id="849" name="Slide Number Placeholder 2"/>
          <p:cNvSpPr/>
          <p:nvPr/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AFE85E-D30A-4965-8A45-6D73C951EC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628560" y="651960"/>
            <a:ext cx="7886880" cy="132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400" spc="-1" strike="noStrike">
                <a:solidFill>
                  <a:srgbClr val="ff0000"/>
                </a:solidFill>
                <a:latin typeface="Calibri"/>
              </a:rPr>
              <a:t>Question 6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1" name=""/>
          <p:cNvSpPr txBox="1"/>
          <p:nvPr/>
        </p:nvSpPr>
        <p:spPr>
          <a:xfrm>
            <a:off x="628560" y="2112840"/>
            <a:ext cx="7886880" cy="35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How would you confirm whether this patient has T1DM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Slide Number Placeholder 3"/>
          <p:cNvSpPr/>
          <p:nvPr/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9B9F78-0D09-4C42-BBB1-DD664FF821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628560" y="419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400" spc="-1" strike="noStrike">
                <a:solidFill>
                  <a:srgbClr val="ff0000"/>
                </a:solidFill>
                <a:latin typeface="Calibri"/>
              </a:rPr>
              <a:t>Answer 6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4" name=""/>
          <p:cNvSpPr txBox="1"/>
          <p:nvPr/>
        </p:nvSpPr>
        <p:spPr>
          <a:xfrm>
            <a:off x="628560" y="1879200"/>
            <a:ext cx="7886880" cy="389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Autoantibodies testing (glutamic acid decarboxylase antibody, anti-islet antibody, insulin autoantibodies &amp; protein tyrosine phosphatase antibody) should be done to confirm the diagnosis of T1D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Additional support for the diagnosis of T1DM is low or undetectable C-peptide level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Slide Number Placeholder 3"/>
          <p:cNvSpPr/>
          <p:nvPr/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BB867B-5355-4588-82B3-81252A0AD3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628560" y="651960"/>
            <a:ext cx="7886880" cy="132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400" spc="-1" strike="noStrike">
                <a:solidFill>
                  <a:srgbClr val="ff0000"/>
                </a:solidFill>
                <a:latin typeface="Calibri"/>
              </a:rPr>
              <a:t>Question 7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7" name=""/>
          <p:cNvSpPr txBox="1"/>
          <p:nvPr/>
        </p:nvSpPr>
        <p:spPr>
          <a:xfrm>
            <a:off x="628560" y="2112480"/>
            <a:ext cx="7886880" cy="36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What are other medical conditions co-exist with T1DM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Slide Number Placeholder 3"/>
          <p:cNvSpPr/>
          <p:nvPr/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14D76B-6B03-41D3-85B1-F07E9542EA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628560" y="392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400" spc="-1" strike="noStrike">
                <a:solidFill>
                  <a:srgbClr val="ff0000"/>
                </a:solidFill>
                <a:latin typeface="Calibri"/>
              </a:rPr>
              <a:t>Answer 7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628560" y="1584360"/>
            <a:ext cx="7886880" cy="46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Autoimmune thyroid dise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atients with T1DM have higher prevalence of autoimmune diseases compared with patients without diabetes. The prevalence of high anti-thyroid peroxidase antibody (aTPO) &amp;/or anti-thyroglobulin antibody ranges between 4.5% &amp; 29.4%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Coeliac dise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prevalence of coeliac disease ranges from 1 to 10% in children with diabetes. However, coeliac disease prevalence is unknown in Malaysia &amp; therefore screening for the disease should be done in suspected case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Primary adrenal insufficienc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s has also been found in T1DM with a prevalence of 0.7%. Although the prevalence is low, clinicians should be aware of the symptoms &amp; signs of adrenal insufficiency in patients with T1DM.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Slide Number Placeholder 3"/>
          <p:cNvSpPr/>
          <p:nvPr/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D095B1-1CD7-4DBB-A4B2-5B9DFB19BA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628560" y="651960"/>
            <a:ext cx="7886880" cy="132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400" spc="-1" strike="noStrike">
                <a:solidFill>
                  <a:srgbClr val="ff0000"/>
                </a:solidFill>
                <a:latin typeface="Calibri"/>
              </a:rPr>
              <a:t>Answer 7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863" name="Picture 2" descr=""/>
          <p:cNvPicPr/>
          <p:nvPr/>
        </p:nvPicPr>
        <p:blipFill>
          <a:blip r:embed="rId1"/>
          <a:stretch/>
        </p:blipFill>
        <p:spPr>
          <a:xfrm>
            <a:off x="314280" y="2184480"/>
            <a:ext cx="8529840" cy="2967120"/>
          </a:xfrm>
          <a:prstGeom prst="rect">
            <a:avLst/>
          </a:prstGeom>
          <a:ln w="0">
            <a:noFill/>
          </a:ln>
        </p:spPr>
      </p:pic>
      <p:sp>
        <p:nvSpPr>
          <p:cNvPr id="864" name="Slide Number Placeholder 2"/>
          <p:cNvSpPr/>
          <p:nvPr/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3DE91F-7326-4F7B-B2A1-A9B542EC4A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628560" y="651960"/>
            <a:ext cx="7886880" cy="132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400" spc="-1" strike="noStrike">
                <a:solidFill>
                  <a:srgbClr val="000000"/>
                </a:solidFill>
                <a:latin typeface="Calibri"/>
              </a:rPr>
              <a:t>Progress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628560" y="2112480"/>
            <a:ext cx="7886880" cy="35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tient was referred to the paediatric/paediatric endocrine team for further management with appropriate insulin therap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MY" sz="2800" spc="-1" strike="noStrike">
                <a:solidFill>
                  <a:srgbClr val="ff0000"/>
                </a:solidFill>
                <a:latin typeface="Calibri"/>
              </a:rPr>
              <a:t>Q8. What would be the treatment goals in thi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800" spc="-1" strike="noStrike">
                <a:solidFill>
                  <a:srgbClr val="ff0000"/>
                </a:solidFill>
                <a:latin typeface="Calibri"/>
              </a:rPr>
              <a:t>         </a:t>
            </a:r>
            <a:r>
              <a:rPr b="1" lang="en-MY" sz="2800" spc="-1" strike="noStrike">
                <a:solidFill>
                  <a:srgbClr val="ff0000"/>
                </a:solidFill>
                <a:latin typeface="Calibri"/>
              </a:rPr>
              <a:t>patient 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Slide Number Placeholder 3"/>
          <p:cNvSpPr/>
          <p:nvPr/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24A48A-9AD0-45F8-B168-D8C869A972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628560" y="4748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SimSun"/>
              </a:rPr>
              <a:t>History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5" name=""/>
          <p:cNvSpPr txBox="1"/>
          <p:nvPr/>
        </p:nvSpPr>
        <p:spPr>
          <a:xfrm>
            <a:off x="628560" y="1935000"/>
            <a:ext cx="7886880" cy="435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A 10-year-old-boy presented to klinik kesihatan  with history of polydipsia, polyuria, bedwetting &amp; weight loss for the past 2 week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Clinically, patient was comfortable with normal hydration status &amp; vital sig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800" spc="-1" strike="noStrike">
                <a:solidFill>
                  <a:srgbClr val="ff0000"/>
                </a:solidFill>
                <a:latin typeface="Calibri"/>
              </a:rPr>
              <a:t>  </a:t>
            </a:r>
            <a:r>
              <a:rPr b="1" lang="en-MY" sz="2800" spc="-1" strike="noStrike">
                <a:solidFill>
                  <a:srgbClr val="ff0000"/>
                </a:solidFill>
                <a:latin typeface="Calibri"/>
              </a:rPr>
              <a:t>Q1. What are the possible diagnose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Slide Number Placeholder 3"/>
          <p:cNvSpPr/>
          <p:nvPr/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67D14D-39BA-4F01-B8EB-5146FF98E6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628560" y="3794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400" spc="-1" strike="noStrike">
                <a:solidFill>
                  <a:srgbClr val="ff0000"/>
                </a:solidFill>
                <a:latin typeface="Calibri"/>
              </a:rPr>
              <a:t>Answer 8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9" name=""/>
          <p:cNvSpPr txBox="1"/>
          <p:nvPr/>
        </p:nvSpPr>
        <p:spPr>
          <a:xfrm>
            <a:off x="628560" y="18396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Achievement of the ideal BG level (near physiological glucose control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No significant hypoglycaemia or recurrent DKA through SMBG &amp; optimal HbA1c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Absence of hypoglycaemia unawaren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Normal growth &amp; pubertal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Normal psychosocial development &amp; adjustment in dealing with a chronic dise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Prevention of long-term diabetic complic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Slide Number Placeholder 3"/>
          <p:cNvSpPr/>
          <p:nvPr/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65AA8A-650F-4448-BF9F-DBD14F0398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000" spc="-1" strike="noStrike">
                <a:solidFill>
                  <a:srgbClr val="ff0000"/>
                </a:solidFill>
                <a:latin typeface="Calibri"/>
              </a:rPr>
              <a:t>Answer 8. Target indicators for </a:t>
            </a:r>
            <a:br>
              <a:rPr sz="4000"/>
            </a:br>
            <a:r>
              <a:rPr b="1" lang="en-MY" sz="4000" spc="-1" strike="noStrike">
                <a:solidFill>
                  <a:srgbClr val="ff0000"/>
                </a:solidFill>
                <a:latin typeface="Calibri"/>
              </a:rPr>
              <a:t>glycaemic control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872" name="Picture 2" descr=""/>
          <p:cNvPicPr/>
          <p:nvPr/>
        </p:nvPicPr>
        <p:blipFill>
          <a:blip r:embed="rId1"/>
          <a:stretch/>
        </p:blipFill>
        <p:spPr>
          <a:xfrm>
            <a:off x="608040" y="1690560"/>
            <a:ext cx="7958160" cy="4524480"/>
          </a:xfrm>
          <a:prstGeom prst="rect">
            <a:avLst/>
          </a:prstGeom>
          <a:ln w="0">
            <a:noFill/>
          </a:ln>
        </p:spPr>
      </p:pic>
      <p:sp>
        <p:nvSpPr>
          <p:cNvPr id="873" name="Slide Number Placeholder 2"/>
          <p:cNvSpPr/>
          <p:nvPr/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A14CE3-82B7-4870-BC0E-370351C61D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628560" y="266760"/>
            <a:ext cx="7886880" cy="11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000" spc="-1" strike="noStrike">
                <a:solidFill>
                  <a:srgbClr val="ff0000"/>
                </a:solidFill>
                <a:latin typeface="Calibri"/>
              </a:rPr>
              <a:t>Answer 8. Target indicators for </a:t>
            </a:r>
            <a:br>
              <a:rPr sz="4000"/>
            </a:br>
            <a:r>
              <a:rPr b="1" lang="en-MY" sz="4000" spc="-1" strike="noStrike">
                <a:solidFill>
                  <a:srgbClr val="ff0000"/>
                </a:solidFill>
                <a:latin typeface="Calibri"/>
              </a:rPr>
              <a:t>glycaemic control</a:t>
            </a:r>
            <a:r>
              <a:rPr b="1" lang="en-MY" sz="1800" spc="-1" strike="noStrike">
                <a:solidFill>
                  <a:srgbClr val="ff0000"/>
                </a:solidFill>
                <a:latin typeface="Calibri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875" name="Picture 2" descr=""/>
          <p:cNvPicPr/>
          <p:nvPr/>
        </p:nvPicPr>
        <p:blipFill>
          <a:blip r:embed="rId1"/>
          <a:stretch/>
        </p:blipFill>
        <p:spPr>
          <a:xfrm>
            <a:off x="604800" y="1379520"/>
            <a:ext cx="7962840" cy="1154160"/>
          </a:xfrm>
          <a:prstGeom prst="rect">
            <a:avLst/>
          </a:prstGeom>
          <a:ln w="0">
            <a:noFill/>
          </a:ln>
        </p:spPr>
      </p:pic>
      <p:pic>
        <p:nvPicPr>
          <p:cNvPr id="876" name="Picture 3" descr=""/>
          <p:cNvPicPr/>
          <p:nvPr/>
        </p:nvPicPr>
        <p:blipFill>
          <a:blip r:embed="rId2"/>
          <a:stretch/>
        </p:blipFill>
        <p:spPr>
          <a:xfrm>
            <a:off x="604800" y="2500200"/>
            <a:ext cx="7962840" cy="3981600"/>
          </a:xfrm>
          <a:prstGeom prst="rect">
            <a:avLst/>
          </a:prstGeom>
          <a:ln w="0">
            <a:noFill/>
          </a:ln>
        </p:spPr>
      </p:pic>
      <p:sp>
        <p:nvSpPr>
          <p:cNvPr id="877" name="Slide Number Placeholder 2"/>
          <p:cNvSpPr/>
          <p:nvPr/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C88CAF-5728-497D-AFF6-6AA313ADE2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628560" y="266400"/>
            <a:ext cx="788688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3600" spc="-1" strike="noStrike">
                <a:solidFill>
                  <a:srgbClr val="ff0000"/>
                </a:solidFill>
                <a:latin typeface="Calibri"/>
              </a:rPr>
              <a:t>Answer 8. Hypoglycaemic awareness 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879" name="Picture 3" descr=""/>
          <p:cNvPicPr/>
          <p:nvPr/>
        </p:nvPicPr>
        <p:blipFill>
          <a:blip r:embed="rId1"/>
          <a:stretch/>
        </p:blipFill>
        <p:spPr>
          <a:xfrm>
            <a:off x="1868400" y="998640"/>
            <a:ext cx="5397480" cy="5216400"/>
          </a:xfrm>
          <a:prstGeom prst="rect">
            <a:avLst/>
          </a:prstGeom>
          <a:ln w="0">
            <a:noFill/>
          </a:ln>
        </p:spPr>
      </p:pic>
      <p:sp>
        <p:nvSpPr>
          <p:cNvPr id="880" name="Slide Number Placeholder 2"/>
          <p:cNvSpPr/>
          <p:nvPr/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CAD305-EEC1-4803-98E2-E15FCF930F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623880" y="1709280"/>
            <a:ext cx="7886880" cy="285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9600" spc="-1" strike="noStrike">
                <a:solidFill>
                  <a:srgbClr val="3333ff"/>
                </a:solidFill>
                <a:latin typeface="Calibri"/>
              </a:rPr>
              <a:t>Thank you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2" name="Slide Number Placeholder 1"/>
          <p:cNvSpPr/>
          <p:nvPr/>
        </p:nvSpPr>
        <p:spPr>
          <a:xfrm>
            <a:off x="41400" y="6478560"/>
            <a:ext cx="78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E1BD7A-DFCF-4284-BDBE-5E894D155D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628560" y="415440"/>
            <a:ext cx="7886880" cy="80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400" spc="-1" strike="noStrike">
                <a:solidFill>
                  <a:srgbClr val="ff0000"/>
                </a:solidFill>
                <a:latin typeface="Calibri"/>
              </a:rPr>
              <a:t>Answer 1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818" name="Content Placeholder 2" descr=""/>
          <p:cNvPicPr/>
          <p:nvPr/>
        </p:nvPicPr>
        <p:blipFill>
          <a:blip r:embed="rId1"/>
          <a:stretch/>
        </p:blipFill>
        <p:spPr>
          <a:xfrm>
            <a:off x="212760" y="1206360"/>
            <a:ext cx="8632800" cy="4853160"/>
          </a:xfrm>
          <a:prstGeom prst="rect">
            <a:avLst/>
          </a:prstGeom>
          <a:ln w="0">
            <a:noFill/>
          </a:ln>
        </p:spPr>
      </p:pic>
      <p:sp>
        <p:nvSpPr>
          <p:cNvPr id="819" name="Slide Number Placeholder 3"/>
          <p:cNvSpPr/>
          <p:nvPr/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2A53D9-DF0A-413F-A58E-D24ACE1FBF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628560" y="651960"/>
            <a:ext cx="7886880" cy="132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400" spc="-1" strike="noStrike">
                <a:solidFill>
                  <a:srgbClr val="ff0000"/>
                </a:solidFill>
                <a:latin typeface="Calibri"/>
              </a:rPr>
              <a:t>Question 2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1" name=""/>
          <p:cNvSpPr txBox="1"/>
          <p:nvPr/>
        </p:nvSpPr>
        <p:spPr>
          <a:xfrm>
            <a:off x="628560" y="2112480"/>
            <a:ext cx="788688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What bedside test would you do now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Slide Number Placeholder 3"/>
          <p:cNvSpPr/>
          <p:nvPr/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21EE1F-9BB5-4CD3-B9E2-D1EAF34135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628560" y="66528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400" spc="-1" strike="noStrike">
                <a:solidFill>
                  <a:srgbClr val="ff0000"/>
                </a:solidFill>
                <a:latin typeface="Calibri"/>
              </a:rPr>
              <a:t>Answer 2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4" name=""/>
          <p:cNvSpPr txBox="1"/>
          <p:nvPr/>
        </p:nvSpPr>
        <p:spPr>
          <a:xfrm>
            <a:off x="628560" y="2125800"/>
            <a:ext cx="7886880" cy="355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800" spc="-1" strike="noStrike">
                <a:solidFill>
                  <a:srgbClr val="ff0000"/>
                </a:solidFill>
                <a:latin typeface="Calibri"/>
              </a:rPr>
              <a:t>Capillary blood glucose (CB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800" spc="-1" strike="noStrike">
                <a:solidFill>
                  <a:srgbClr val="ff0000"/>
                </a:solidFill>
                <a:latin typeface="Calibri"/>
              </a:rPr>
              <a:t>Urine FEME (include glucose &amp; ketone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Slide Number Placeholder 3"/>
          <p:cNvSpPr/>
          <p:nvPr/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BCCD6D-E85E-4C77-9551-868C159A99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628560" y="66528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400" spc="-1" strike="noStrike">
                <a:solidFill>
                  <a:srgbClr val="000000"/>
                </a:solidFill>
                <a:latin typeface="Calibri"/>
              </a:rPr>
              <a:t>Results of Investigations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7" name=""/>
          <p:cNvSpPr txBox="1"/>
          <p:nvPr/>
        </p:nvSpPr>
        <p:spPr>
          <a:xfrm>
            <a:off x="628560" y="2125440"/>
            <a:ext cx="7886880" cy="368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CBG: 16 mmol/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Urine test: glucose 2+ , ketone –ve, leucocyte –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800" spc="-1" strike="noStrike">
                <a:solidFill>
                  <a:srgbClr val="ff0000"/>
                </a:solidFill>
                <a:latin typeface="Calibri"/>
              </a:rPr>
              <a:t>Q3. What is the diagnosis &amp; your next plan of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800" spc="-1" strike="noStrike">
                <a:solidFill>
                  <a:srgbClr val="ff0000"/>
                </a:solidFill>
                <a:latin typeface="Calibri"/>
              </a:rPr>
              <a:t>        </a:t>
            </a:r>
            <a:r>
              <a:rPr b="1" lang="en-MY" sz="2800" spc="-1" strike="noStrike">
                <a:solidFill>
                  <a:srgbClr val="ff0000"/>
                </a:solidFill>
                <a:latin typeface="Calibri"/>
              </a:rPr>
              <a:t>management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Slide Number Placeholder 3"/>
          <p:cNvSpPr/>
          <p:nvPr/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DDC10F-4870-4657-AB1D-14C64ACE71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628560" y="651960"/>
            <a:ext cx="7886880" cy="132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Answer 3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0" name=""/>
          <p:cNvSpPr txBox="1"/>
          <p:nvPr/>
        </p:nvSpPr>
        <p:spPr>
          <a:xfrm>
            <a:off x="628560" y="2112840"/>
            <a:ext cx="7886880" cy="37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abetes mellitus with hyperosmolar symp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fer to hospital for further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Slide Number Placeholder 3"/>
          <p:cNvSpPr/>
          <p:nvPr/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67B8D2-8597-4021-8702-C3E1A995B7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628560" y="67932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400" spc="-1" strike="noStrike">
                <a:solidFill>
                  <a:srgbClr val="ff0000"/>
                </a:solidFill>
                <a:latin typeface="Calibri"/>
              </a:rPr>
              <a:t>Question 4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3" name=""/>
          <p:cNvSpPr txBox="1"/>
          <p:nvPr/>
        </p:nvSpPr>
        <p:spPr>
          <a:xfrm>
            <a:off x="628560" y="2139840"/>
            <a:ext cx="7886880" cy="361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What further test needed to confirm your diagnosi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Slide Number Placeholder 3"/>
          <p:cNvSpPr/>
          <p:nvPr/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FFE1D3-540A-44D0-A765-A371F44C9F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28560" y="651960"/>
            <a:ext cx="7886880" cy="132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400" spc="-1" strike="noStrike">
                <a:solidFill>
                  <a:srgbClr val="ff0000"/>
                </a:solidFill>
                <a:latin typeface="Calibri"/>
              </a:rPr>
              <a:t>Answer 4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6" name=""/>
          <p:cNvSpPr txBox="1"/>
          <p:nvPr/>
        </p:nvSpPr>
        <p:spPr>
          <a:xfrm>
            <a:off x="628560" y="2112840"/>
            <a:ext cx="788688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ff0000"/>
                </a:solidFill>
                <a:latin typeface="Calibri"/>
              </a:rPr>
              <a:t>Random blood glucos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ff0000"/>
                </a:solidFill>
                <a:latin typeface="Calibri"/>
              </a:rPr>
              <a:t>HbA1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ff0000"/>
                </a:solidFill>
                <a:latin typeface="Calibri"/>
              </a:rPr>
              <a:t>Blood keto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ff0000"/>
                </a:solidFill>
                <a:latin typeface="Calibri"/>
              </a:rPr>
              <a:t>Venous blood ga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Slide Number Placeholder 3"/>
          <p:cNvSpPr/>
          <p:nvPr/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CB508C-63DE-4AB7-819C-413BCE24FD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25T04:18:09Z</dcterms:created>
  <dc:creator>Suriawati A.A.</dc:creator>
  <dc:description/>
  <dc:language>en-US</dc:language>
  <cp:lastModifiedBy>DrAmin</cp:lastModifiedBy>
  <dcterms:modified xsi:type="dcterms:W3CDTF">2016-12-29T03:00:47Z</dcterms:modified>
  <cp:revision>100</cp:revision>
  <dc:subject/>
  <dc:title>PowerPoint Presentation</dc:title>
</cp:coreProperties>
</file>